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B95-E4E2-4CC1-9B6E-3E29A8BF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62E-C8D7-49B5-9386-5D38D001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920-AF29-44A8-9904-0F57A323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EB3-18F4-40F1-BDBF-E90B1B29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FBBA-65B7-45D9-BEC8-82FC65E2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5188-A28F-4AD7-9D21-2D4153B4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F816-8CB3-49BC-BB92-46CE359F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FA79-E477-4DEF-AC4D-8B2F2E1A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101C-4684-4278-84CB-D23ECB8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CF9A-268B-4C98-A930-0C6125D8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5264-D171-49AB-8A23-0AC009C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80F-9D9E-40CE-8FE7-92509090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50C5-0DCC-4C7A-BA2C-BA05C39D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B895-2247-4974-8E64-521680DF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BB92-4035-409B-B9E4-D2387DCE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0487-BB73-47FC-B14C-DF96F231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171D-E1E2-4D8F-9960-F39DC9DA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707-22D5-49B4-A8DC-45002BAB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3A1-8DA1-4FF8-B670-8C7FE853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DD2-2831-4675-896B-6FB49A26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F45-BB66-47C8-8372-81E30E86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969-CC3B-4F01-9699-26738562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2CE-B413-4E93-828C-EB7927DD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2B5-ED88-46ED-9F35-22DD49EA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583-5C1C-4ABF-AE0F-B387D23A8E9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0496-9197-4EB6-9717-45E57569857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438280" y="3048120"/>
            <a:ext cx="45244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.1  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比例函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520" y="838080"/>
            <a:ext cx="4248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47640" y="1413000"/>
            <a:ext cx="1656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48520" y="5869080"/>
            <a:ext cx="2014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河北教育出版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143000"/>
            <a:ext cx="8001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行车运动员在长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00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路段上骑车训练，行驶全程所用的时间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行驶的平均速度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函数表达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当行驶的平均速度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5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行驶全程所用的时间各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105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250s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000s 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8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8120" y="3135240"/>
                <a:ext cx="14554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11430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物体对桌面的压力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50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受力面积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压强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P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函数关系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根据写出的函数关系式，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观察上表，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增大还是减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81280"/>
          <a:ext cx="7467480" cy="1143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286000" y="4267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           22.5          15          11.25 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959440" y="1712880"/>
          <a:ext cx="1584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9440" y="1712880"/>
                    <a:ext cx="1584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3382560" y="558468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106668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已知的面积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0c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底边长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高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函数关系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根据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写出的函数关系式，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观察上表，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怎样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3048120"/>
          <a:ext cx="7467480" cy="1143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15000" y="1523880"/>
                <a:ext cx="1184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2057400" y="3581280"/>
            <a:ext cx="6172200" cy="612000"/>
            <a:chOff x="2057400" y="3581280"/>
            <a:chExt cx="6172200" cy="612000"/>
          </a:xfrm>
        </p:grpSpPr>
        <p:sp>
          <p:nvSpPr>
            <p:cNvPr id="170" name=""/>
            <p:cNvSpPr/>
            <p:nvPr/>
          </p:nvSpPr>
          <p:spPr>
            <a:xfrm>
              <a:off x="2057400" y="373356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          10                                  5          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4787640" y="3581280"/>
                  <a:ext cx="354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"/>
          <p:cNvSpPr/>
          <p:nvPr/>
        </p:nvSpPr>
        <p:spPr>
          <a:xfrm>
            <a:off x="2926080" y="484668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09480" y="3049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家谈谈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143000"/>
            <a:ext cx="8001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前面三个函数表达式有哪些共同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果变量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与变量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乘积总是等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那么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表达式具有前面的特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还能举出具有这种函数关系的实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0880" y="3416400"/>
            <a:ext cx="8229600" cy="2064600"/>
            <a:chOff x="380880" y="3416400"/>
            <a:chExt cx="8229600" cy="2064600"/>
          </a:xfrm>
        </p:grpSpPr>
        <p:sp>
          <p:nvSpPr>
            <p:cNvPr id="176" name=""/>
            <p:cNvSpPr/>
            <p:nvPr/>
          </p:nvSpPr>
          <p:spPr>
            <a:xfrm>
              <a:off x="380880" y="3416400"/>
              <a:ext cx="82296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果变量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之间的函数关系可以表示成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常数，且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≠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的形式，则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反比例函数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80880" y="3962520"/>
                  <a:ext cx="167652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304920"/>
            <a:ext cx="1067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14300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举出生活中具有反比例关系的实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星星电子集团接到了生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00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计算机零部件的任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请写出用生产这批零部件所要用的时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t(h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表示每小时生产零部件个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函数表达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下列函数中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哪些是反比例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24280" y="2583000"/>
                <a:ext cx="1447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038480"/>
                <a:ext cx="1295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286000" y="4267080"/>
                <a:ext cx="13716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86400" y="5257800"/>
                <a:ext cx="1258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4038480"/>
                <a:ext cx="145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248520" y="4038480"/>
                <a:ext cx="1930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66880" y="5257800"/>
                <a:ext cx="1708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838080" y="4648320"/>
            <a:ext cx="8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4648320"/>
            <a:ext cx="8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64832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464832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594360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943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447920" y="25146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：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971800" y="36576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题 </a:t>
            </a: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2.3.4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雨林木风</cp:lastModifiedBy>
  <dcterms:modified xsi:type="dcterms:W3CDTF">2009-08-13T09:09:0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